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A92-BDE3-4096-8A12-3080FF42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7396-03DC-4526-908F-D13A26B5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FD0D9-3A07-461B-9053-664242CC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BA2A9-9543-4832-BEE7-468F54B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CFFE4-943F-4047-9EF8-395CB61B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63878-400B-4D65-A3DF-2F22DB6E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2D76A-65C0-4490-BEE4-E4645323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815C5-500B-4C00-ACFF-863CEF7D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ECADC-E51A-4061-8E20-4D3006A3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8414C-99A6-4274-A9C4-C0824326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68B02-14B7-463F-A1A5-F8155CB0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79A6F-C21A-41FC-BCD2-9442499D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969-F36F-4513-BE5C-F31B82D9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01C8E-6BD4-4B72-B71F-D453686E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9737A-94A5-438B-AB94-32B8E442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E9451-5970-4D00-A1F5-3D5F8F9A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65132-EA73-4FC8-BA1E-9673801A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7FD9A-6CE7-4841-944C-7D344EF2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FB6BC-7ABB-4134-B071-448B46FE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BBF37-05EA-4D7B-AD5B-835648BB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EDE1E-F858-4DFB-B019-F77855D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5E223-6BE4-47B5-9BCA-4AE34398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6CB0C-5576-4E4C-8812-0989EBC3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A4F-1E3E-4E25-BC4D-869B2FDF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DABB8-6DF8-4653-ACDD-B1395A5C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CB8BF-291D-4FAC-B695-78C45914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12F63-14C0-4B28-80AC-D983735B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564BD-1A57-47CF-AD6F-CF5F7907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93466-411A-441F-8B7F-77C55E6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C4B4-975F-4CAD-A1F2-6F0F7D79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D2665-570C-48DA-A9E0-0A271F1F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219A1-569A-4DFE-865A-96D83FD7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12C5-B6F4-4077-AD01-40BDC33E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02775-B4F0-4B22-8F77-A58968C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4F41-DF83-4F5C-B039-CF98415C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39B00-256E-4611-87C3-B3FD8B7E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BA54A-712A-42C4-8945-AC969A3C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069FA-4E59-4CF5-9467-BB48CAD7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69723-06E5-4D39-B595-3B985825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5B680-4167-46F9-914D-175ED16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7AD47-E760-4D87-8492-5721C1F5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D17E5-3820-4764-A840-1335601A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E01AD-4D5A-42C7-84CB-BF142A9F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A1127-64BE-447A-9432-8B62B07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C183D-FBBF-40D2-9881-D9135669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51F4-075B-4FD8-A2BB-FCA9E21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104C4-C344-4505-B4F9-060ACEF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07A72-C1F8-4063-B60C-79CA50B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312AD-4DD3-4233-8021-D49F3A8C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669C6-7ED9-4B2A-8E64-79CDE4EA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AF59E-6200-45B4-9A2B-31E0770D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027F1-5FFA-49E4-940B-DA1F4F1C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A4E8B-5CC5-4916-A908-7717FD4F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49E9C-0821-4377-B92E-19358DD7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249F3-88CF-40A8-BBFF-EAC1802F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C57C9-C8BB-46E3-A5B6-D6BCE1A4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88F1-8BEB-4F6B-91B6-40161A4F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81BD6-0A56-40D3-A93E-49948726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AD5FF-5683-455F-A08B-2AA92195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E6F62-0DDB-4547-AE2B-CB5DD15C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B8627-D186-44DA-925C-4BE390C1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EDAE8-5E80-4219-B96F-6CC7F2AB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99935-01BB-4AE8-9AE1-822448C0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9107EA-801D-4AE0-A913-CE27CC74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4F7B1-E890-4788-A09E-6B34AF4C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41233-EDC2-4E82-8071-EA9151F1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E0679-E6D7-4CEE-BE65-ABF0DD11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5759-5C44-4270-83D3-5C46CD8D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115AF-36F0-433A-9FFD-24FA0637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55BA3-1DBE-4B4A-9B0C-B0A5ED56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24A2A-4E09-4537-943D-DFA58211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960EC-DE0D-4E90-A1C7-6DACB19E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4DE83-7412-4292-9AC2-F93AA98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F4FDA-26EC-4134-9F9D-746BD65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3B2F4-F377-4959-AE57-E63AC820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749FC-D137-437B-8D44-1AACC0FE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7BA41-04F0-410B-B405-6AFA84E4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EF99C-299E-42AD-BA03-3965DA8B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D822-4DBE-46F4-A57E-0A972D1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A5514-B0D2-4A83-9E2B-BFE49BF4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73F1D-F81F-4CB7-872B-025F3D4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28C8D-1AD3-4CB6-B558-C92EC435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DC1A9-50E8-4817-AE16-FC499DA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DCF55-17FE-4884-9998-0D28379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AB047-3089-4F43-A65E-1B0182AA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F3C00-09F6-4A4A-AE45-840687F7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260928-B067-47A3-B441-CF0ED4FA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D9F75-5918-4D0F-A1B1-6CAB7D6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FC44C-CA57-4E40-A1EB-2701798B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1C66-DBEB-4D1C-AF0F-7837BE28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9EB48-B8DF-4C1B-876E-22EB1046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83064-B1EB-467F-8914-FA65A712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E1E1C-7093-41B0-AF82-0B78C61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A10F6-47AC-4E26-8B0B-9158DC7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1C8E5-AEC7-45C9-981A-C2A23F3E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6C500-3943-4424-A3A0-BDB5479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1CFF4-DC86-48B9-8C50-DA050065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915DD-206F-4835-9454-A93BF5E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EB89B-AB42-4FDC-B6AB-0CC40CE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A9036-12B2-424E-8A7B-EC113E9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8385-FD20-47C4-98FF-AFF123B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037E04-49A1-4D63-8091-C07C2A5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25114-1874-4DB1-B522-129F8FD0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41A45-A83A-4528-93FC-F837CCE1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344BD-FE37-4E39-BA99-FBFE0455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9957C-55DC-4E8B-9B99-20A61457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43734D-390B-41C6-B7C5-C29A407B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FDC98-3FD1-4767-A9EC-465BAC5A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4DB17-1D82-4485-8113-2E9815C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EDD16-75BF-4C36-B73F-E5BC50EC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748EA-593F-431C-A35A-2358A9A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BB4-CE8A-4C68-85EB-CA81ED4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B3BB-F459-463F-9D36-6719894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C8088-50A8-4D20-993C-5DC8E0B6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1CBFC-45FA-40B5-A14D-96E164A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A412A-C3CA-4D7C-B1F2-184DAFA9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396CF-640C-4C4F-92DD-6744FB26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E182F-8ECE-496D-A3E4-102953B0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BB43C9-F43B-4AAB-9A11-D36008AE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16320-F230-4310-8373-9A84513F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55218-876C-4A4C-89EC-B146758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6CD1B5-2FE2-45AB-AD42-4DDF27DB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63355-1FB0-40A8-A179-E228DA48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0B15-F9F6-4C57-B282-CB8DA96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88EB1-A49C-4758-8504-5E2DE2B3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D5F8B9-688C-4FA9-9C9F-A70765DF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9D1B6-BC13-4963-BC51-1CF322E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C23E7B-5DB3-489D-92F0-9879E86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DFF65-BCB2-4980-808C-02115031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6D29C-4D23-4BEC-AA77-19435F82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1403F-EB89-4DC9-AD7D-F42F3FC4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9B1F6-DD51-40FD-BEEC-9CF64F09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2AF26-6FE4-4D40-9E9F-D814A4C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58488-1DDF-411F-9A30-BFC223B7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5782-49AC-4650-BE79-502F882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C00D6-1ED2-4B62-8C01-47920E72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A33DC-660D-4D87-86A2-47CB5588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49FBC3-4451-43B2-AE91-00BDB7C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12B69E-A461-40C1-8853-E41D42B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167EF-F1FA-4662-9E7B-AF3E2E3F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F7EC2-2DE5-465D-B9A2-D420EC6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F7878-AAE0-4AF5-8192-90C6F91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159EB-AB4E-4A97-80E4-6DD6A9DE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02AA2-FA08-46F3-8C38-B9A65233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9EB22-E4D4-4393-A9B9-2E92B574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0E6A-774D-4195-9158-51260B92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6A200-2E11-4ABD-9658-6BE82FC1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436AE9-E9D0-4CA8-AC4A-0C4D9A91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28B9F-80D9-4346-8790-9C698A1D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2EA07-B666-4314-B999-CDCEEB63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E7F22-4694-453F-BEE3-0B9AF4F0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26A7C-809A-4CDB-82C1-70DD5D2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FAD93-6063-4067-91AC-DEA29893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64C4C-C4B7-412E-9382-2A2115A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677E7-DCF9-4318-9C44-F822EB43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85752-98DB-46BA-9D63-7A4D4C31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64C3-54EA-41F1-8F83-3B6D86F6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54AA2B-4289-4E12-9196-2965EA45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33EC5-72D6-4497-85A8-8576CED6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9D3B4-3AA3-4EAA-BC24-DE33C5F1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461257-4068-46A5-91A5-0AB725E5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CFB51-B88B-42FF-839C-78BAD1B6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F1BE6-475C-49BB-BAB2-391F405A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37B63-BA18-4985-A8B0-E005E6FC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1F58F-B166-4879-A3F5-FAEAB30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DDFA2-6923-424B-90A5-3369649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61349-5768-49D5-9705-C8BB789A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83E35-7939-4E44-898A-3D9333CF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494BF-814D-471C-8B2F-D2666DE8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5D7D3-A467-4E78-9077-F180F7B1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512BC-A387-41A7-A43C-10B6DE49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DDB7FC-EEC8-4B5A-BB98-866528DE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BBC93-91B7-4D81-89C6-82C3F978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90B4B-EF5E-4CE0-8B54-8F92C537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2524FB-3935-4219-806A-C2436300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089B00-63DF-4346-A9DA-F8D2CC6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2D1662-7121-456E-8761-7587F2A2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41512F-A9BB-4C0E-B80E-E914E88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A3AF-30BB-4FBB-936E-11A20198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95814-6DA2-455F-BE19-F013653E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10AF7C-78CF-4CCB-98DD-E6FCF10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6B6A8-A778-4D09-BC26-F656787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DCA468-F4F2-45BE-9FC4-FC8F0EF8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9C205-B338-4850-AD06-63443335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3D7E43-C087-42EF-A8A2-DB6ABBD4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AE072E-CB76-42A9-9E86-E6614E19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51F2B4-31DF-41FD-84F4-C8D5BB51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2845F8-B043-4D74-91DD-B10E981F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65932D-970F-4635-99B9-57FDB949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FA28-595F-4E87-8184-BEA28FEA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9B4226-23CB-4D30-8A3D-C2EC5F25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1BEC89-DFA3-4E68-80BC-E37B098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FF96DA-50FF-42B0-BE2C-1789BFE5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E967A6-C8B2-4DBF-B7E2-6CAC5A3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6EEAE-6A78-4D28-BCEB-306BF03E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D576DB-2A6F-49E1-88DF-A5DBC6DD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A185CC-AA68-47B1-91C0-30E75400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DE8E0-8C47-45C2-9247-020D1D00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620079-A3DB-40E7-B6DB-7F1F51B5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5C5EAF-9F19-45BA-B655-861794F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733E-2429-40E6-BEFA-F52BF874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05B663-333B-4894-B2C1-2676A40C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3DFE62-0F78-4A0A-9EE7-9FB577FE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7DAECD-6304-4047-BFA7-D2EB079F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B54E88-20C9-4574-A2C7-574830B5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A7B668-E8A4-45AA-9304-CF962FDC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58F720-F5D9-4390-832C-3B948E3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530BEA-0463-456C-9470-9C9C267A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41A3FE-3483-4FB2-B19F-12A0FB49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8B4D60-8B86-442D-89CC-2190D4B7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49A341-6D15-4FC5-99BD-7B9BC572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8FFA-C943-40BD-A198-585628C5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A7101B-68DA-410F-879B-B5F0AD17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F6645D-2890-4C05-90B8-F66D2E2C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A46C06-4971-4360-9EC1-568EA77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FC6BD5-A5D0-4ABA-8BB2-F86A34F4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EB1F1B-4CA0-4B70-B9A6-9D52B104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2C9F79-2ADA-4A89-A9C8-26AB149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6290CF-1C3C-4A48-972B-8C0854C6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8D66B3-B8AD-4168-B39F-B8C850F0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FAB5E3-5743-4BFE-9D1A-06E257C4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10177C-E78A-4A3F-BD00-5CB1AC04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F3E-6896-4514-998D-4D1936DE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8BFDC-3EBF-44E2-9EFB-ABC04F38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58FE36-66B0-44AC-BBD4-F520D537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F60CBA-CFEA-49A3-B98B-0BE60C49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C102CB-4529-4509-A072-30B4C00B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226317-8524-420F-8700-A67103AC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930F9C-96EC-4F74-BE80-0AD8D507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975FAB-0478-4E82-BA77-BFB02799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6026D7-29E3-4D74-9263-AFA56CF7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97FF5E-9AD0-4C69-B5B4-C0F4C98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8EE546-66BB-42CC-9066-01B4074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48281C-2F5D-4184-AC3E-6697696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9D56-5C7D-4E81-A087-07DC11B1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F2D3D-58D5-4318-91BA-3A3D910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E18810-76A8-4021-A49F-67896750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D1D5C7-64E1-421F-8EC3-CD4D488F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4DED73-91D6-45BC-B7AD-51C17727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82500F-1BAC-4E48-968D-7D91DE6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690E74-D126-4C58-9037-479C923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01D4D0-8D97-4603-B149-211DF7E4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7F8A03-900F-41BC-844D-58FF4F5D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11A0AE-455E-476F-A784-B1F8E819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1CB354-A595-4991-9B20-94D2C49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00402-36F7-4D66-B8D1-54D90546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87CB49-7FE5-4167-B3AC-7BFC01F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D2197F-52C7-4128-85C8-BA70691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AB9B8F-FE9C-4E9C-9502-BEFA0F23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1DA55A-D540-4E82-BE1F-90F60515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0FBC9F-E4E2-4281-8D90-87948EAA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988DF7-3ACC-4572-8809-D46C25DD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52D997-A385-4431-A679-65436B12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37B597-E01A-4998-B4DB-58E3B168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F32A33-A9AB-47ED-9F98-FF751AE5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6C6EE5-71CE-41C0-AB40-1CA228A4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3C36-456F-4E68-AC44-71F6B18D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380DDB-CC60-46A0-AEF7-1126D328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9AC3DF-A337-4A18-A571-D2AC395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1A4A5A-D5BA-43EC-B520-2D0EF2A2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CFCDAA-2AA5-4E77-92BD-89EF4F7D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500034-B5F3-4D04-9FF6-4FE5CF4D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E3B6D2-CD8C-4F3C-8421-5240D7C6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2CA1C1-A235-42CC-8701-021C7491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291EC1-8DBB-4695-B97C-120ED44F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5AB674-A6AF-4CD9-9DA3-CF97441C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8D603D-7378-44D5-9607-8C1CB0B8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FE59-D735-44FC-8677-6BA8BF13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F1E988-D5EF-4AC5-960F-6BB8D135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9BA066-F1FE-43BC-B9AD-18FA27B0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3F3BE7-8994-459E-8B88-C513BDC1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ED9ED8-652F-43F8-A0C4-9BAB3FE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069111-F4B1-4148-BA23-A1DF1DAB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DC5ECF-D41A-4E80-A1C9-FEB939BC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AF91D1-42DE-4EF5-83BD-FE9DAC8A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521D03-ADF4-40FC-A5FC-86777CAE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875631-E3CD-4E6F-8BF3-B2CE4305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6B3C9E-3D61-454D-9E9A-B6EBA7D6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D2C5-A1E2-41E4-A9C8-74FABF0F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5D136C-6DC9-4CB8-96FF-ED7F0A75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B0E447-47C6-4F0A-B97E-E75E2C61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E31454-1E48-459B-AA02-3D1A24E4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81F49F-A84F-4F22-BC3E-2621E94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7EE5BD-C6C4-4B22-9B08-022B2F2C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180D0E-EA91-440B-BE0E-B49DEB5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D832F9-9DB6-44DB-B169-1208EA5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E94093-8251-4A2D-86DF-B46B89C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27341A-22CA-413E-8496-8E8FB923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D831B7-4682-4DAA-8734-D1B282AE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F53D-F2F2-4434-BE78-9DBA7038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E03677-929A-40AF-8E47-3003AAF5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3D8DB8-37D0-41FB-8726-6D46F2A0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586545-2526-4A4F-9340-914833FC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B39B6F-4DB8-4010-8C7F-24538337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0FB2FA-F14E-4D82-9E2E-4EBF19D3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0C876D-13B4-4149-B181-782492C6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33D318-2880-40AF-8BFD-C6679FC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6B672F-92E2-4754-A126-E931D97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9E2A0C-B541-4288-9E08-56520A2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E4324E-4437-4491-9F37-EA208F2F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33E9-68F0-415D-8470-735971E4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C195A0-28BE-435C-BB18-356FA6B2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42AF50-613D-4916-8761-24D18344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8A74E8-8D14-4523-962F-FD578A1F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083F-5A6D-4490-9C98-AEF2C72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28E98-2149-4B04-A947-A7CA48EA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C89-B765-4286-A092-FB137E38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6C096-47B1-42E2-B7B2-F24DCE70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C138-1EC0-4DD4-9671-488444BA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BEF2-85F6-4770-B45D-B3D31E62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FAFD0-EA08-4E49-AEB2-27CC635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70DC-E317-4EBF-A4BE-D9E047E4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E41AC-5EA3-40E3-A629-678C283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ED59B-FDC3-46E2-BF5D-4FBC733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AFC97-ACBF-43BC-9948-559BD4B9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A1BF5-9B87-42BE-8C48-D7C21943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0991-856B-472E-8E7C-4578CF55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9DE-CC5F-4900-8F44-35822B9D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6115D-998E-4FBE-9730-32CB352B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63C5-1A9B-4528-B7D5-D65FEFB9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E3912-BCBB-4320-AA85-4B5EFFC0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54F8-204A-4487-A790-83B8819E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3010-B103-4A01-BC5C-7FAFFA26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A2E5D-7892-4710-B66C-737FC3AB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965E-3392-48C1-BB0D-92B41F06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3DB8-B729-4F86-ACDA-82ECC77A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D9E4A-0912-41DF-9E94-F09D4FF2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DE01-B72A-4FB5-B1CA-F926160F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174-13C5-4B9D-90B3-8EBFAD41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C476A-BC42-4055-BD63-665C7893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A5FF-E7D0-4009-B7E4-AF4B8718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E251-AC96-452D-B7F3-BB180547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00B1C-DC2F-419B-93B6-7CA517C0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3451-EA6D-4AE4-9496-4EEFB64A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FCE1-91A0-49E9-A6D4-273EC3C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B62FC-D0AE-44A6-A143-D3EB7A02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377F9-E336-437E-93BC-562AD0F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22CFE-F9DE-428D-A7DB-62EFEB7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BC2E-1B36-4C1D-B21C-5D1EA533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3D5-0D95-49EE-8B29-E7B1CAE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1D70B-A3F1-4252-B177-5D1EF57C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BEDA7-C0EC-4B7E-8092-B9FEE5DA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B91E-003A-46C1-9A29-28380F81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B2F3-3208-4DDD-A343-BA2DAA1C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5765A-8B95-4969-A230-253432A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B2E73-3B32-47B3-806D-6B248B40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347C7-8B59-4CF0-921B-EA343734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AC97D-6426-4761-AFC2-E66DD2CB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8288-2975-4426-BB22-D4421199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C447-4BE9-4F01-8464-0F20CE9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262-BB2F-4527-982D-EA02EDCB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9409-0FA2-40A0-89C3-E08DAD8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9D8C5-155B-4CCD-B070-1FC9719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26C51-96A1-4888-B193-70F1F4E8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CE9F-83C4-4E90-9E55-C8B56E81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4DA60-5B92-4F70-939B-D387CD64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3AF28-F1E4-4A76-B842-2FEF6B0F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B482-75CE-4723-8C18-5CFAF660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894A-F184-4295-93B8-C2D48947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55BF5-1D05-45A9-926A-5F2EF7E7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C95D9-D1E8-445E-815E-5652D8FB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A52-5D6D-49EC-997E-1D42D62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C038-F65F-4A6E-9D27-43106A5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322D0-298C-45D4-B4DA-279F995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D245B-5176-4B9F-93C6-15F8F37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C4C26-DE1A-4D64-99BE-E1C71C32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1F769-5445-4FD1-A5E7-7F44BF0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6E080-AB2D-4E0D-8ACE-5D66D1D2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A3768-319A-4758-B342-B06E1862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5A0B9-4CA2-43AA-A376-7F7699C9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BB7F2-6A87-4FD2-A36E-D8FD880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34154-09D2-4E9C-80D9-49651A47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498-ECAA-492A-9EA4-450F5C2130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239F-0458-4B9C-A57E-6B10D4C85F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3524-48DA-4D14-A73C-DB7B27E8D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11F5-5A03-48B3-A69E-A43FD800D8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1DC9-7E06-45CE-A32E-75DBA0BE9D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A466-8EC6-46D9-8C12-91EB557191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A5E7-A021-4C49-802E-29694D031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4E88-8DFB-417A-AD99-9DC6E1C65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4600-4528-4828-945B-9E131C0FD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1213-237F-4570-BC73-4368CA07F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2254-7056-4CA1-9D79-30BC28FC6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78AC-101E-40F9-B8F2-A545EDAE8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7328-AD84-423E-9717-52E29AACFF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1B7-5B50-4F81-B1FF-674C7A09A8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806E-3A81-4ACC-BFF2-AB6445276E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AE25-F68D-4609-9004-5879BBE07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57F-2A35-43B9-9410-88433F933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185B-5456-417C-9B81-214E43AA6E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F3C6-ED52-4B02-9FE9-BF55E1708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FA90-2E20-4F1B-90B1-B1283C523B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048A-B3B2-4F36-9D1B-4A412FCE65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AC5-5184-41E8-B590-7AED2B0A37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04C-C46F-40AA-80A3-B8628F46A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A5B0-FFC0-4EF7-B218-A43EFE00A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6DB-7C81-4FE2-AF0D-F820190CD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94C8-3FFB-45C6-BD9C-08817FAB66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9152-A302-4EF0-80AC-619F4B6F3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F7F0-89CB-49A0-8282-11B3DF044A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C83D-110F-4617-8ADE-79C616BA7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E551-16FC-436E-86B5-73E5471C18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2DE-90E9-4358-9FBD-77ECA72A2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B865-9AAA-40DA-8B8E-722818B58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125F-DBAA-4C27-A8B2-793E3EA8AF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1F6-6E09-4C70-BD9F-D8C35FF485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9A63-509F-4EA1-A7A5-1889DFB2D4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E691-73A3-4C17-801D-00CC7971D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09B9-1940-4DED-AB29-557A1C49D2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DB8-17C0-4E28-B980-ED19B43305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EBB2-D77B-4563-B2A4-30AC69E1DA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E3DB-1C6F-4C22-9336-34B5AD2333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6F6-A2B7-4153-A1FA-65E755982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8777-E613-4EC8-B647-DC758A9DE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FE0D-6C77-487A-AE68-90AB896BA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F801-3DC1-413C-BF06-8E01F2884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7DBE-BB8A-45DF-9714-A225AE7641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6AFD-A18E-4118-A8B9-3FA9FE83B7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24F2-432C-4AF5-9DBA-CD1A438AD1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8A13-D275-44D8-93B7-E9621908D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8E72-308B-4B47-993E-06A532643A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052D-F828-48BE-8766-363720F9CB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295360" y="3119400"/>
            <a:ext cx="4553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6738" descr=""/>
          <p:cNvPicPr/>
          <p:nvPr/>
        </p:nvPicPr>
        <p:blipFill>
          <a:blip r:embed="rId1"/>
          <a:stretch/>
        </p:blipFill>
        <p:spPr>
          <a:xfrm>
            <a:off x="611280" y="733320"/>
            <a:ext cx="812484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5713" descr=""/>
          <p:cNvPicPr/>
          <p:nvPr/>
        </p:nvPicPr>
        <p:blipFill>
          <a:blip r:embed="rId1"/>
          <a:stretch/>
        </p:blipFill>
        <p:spPr>
          <a:xfrm>
            <a:off x="723960" y="140976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5714"/>
          <p:cNvSpPr/>
          <p:nvPr/>
        </p:nvSpPr>
        <p:spPr>
          <a:xfrm>
            <a:off x="1360440" y="3746520"/>
            <a:ext cx="71200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5715"/>
          <p:cNvSpPr/>
          <p:nvPr/>
        </p:nvSpPr>
        <p:spPr>
          <a:xfrm>
            <a:off x="1284120" y="4295880"/>
            <a:ext cx="71200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6"/>
          <p:cNvSpPr/>
          <p:nvPr/>
        </p:nvSpPr>
        <p:spPr>
          <a:xfrm>
            <a:off x="1141560" y="4848120"/>
            <a:ext cx="7119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715160" cy="218088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4690"/>
          <p:cNvSpPr/>
          <p:nvPr/>
        </p:nvSpPr>
        <p:spPr>
          <a:xfrm>
            <a:off x="1170000" y="2400480"/>
            <a:ext cx="71200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1"/>
          <p:cNvSpPr/>
          <p:nvPr/>
        </p:nvSpPr>
        <p:spPr>
          <a:xfrm>
            <a:off x="1179360" y="2990880"/>
            <a:ext cx="71200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2"/>
          <p:cNvSpPr/>
          <p:nvPr/>
        </p:nvSpPr>
        <p:spPr>
          <a:xfrm>
            <a:off x="1122480" y="3581280"/>
            <a:ext cx="7119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13667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393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264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048520" cy="211464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12642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4200" cy="390528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2643"/>
          <p:cNvSpPr/>
          <p:nvPr/>
        </p:nvSpPr>
        <p:spPr>
          <a:xfrm>
            <a:off x="969840" y="4010040"/>
            <a:ext cx="75628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2644"/>
          <p:cNvSpPr/>
          <p:nvPr/>
        </p:nvSpPr>
        <p:spPr>
          <a:xfrm>
            <a:off x="826920" y="4610160"/>
            <a:ext cx="7562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2645"/>
          <p:cNvSpPr/>
          <p:nvPr/>
        </p:nvSpPr>
        <p:spPr>
          <a:xfrm>
            <a:off x="950760" y="5143680"/>
            <a:ext cx="7562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2646"/>
          <p:cNvSpPr/>
          <p:nvPr/>
        </p:nvSpPr>
        <p:spPr>
          <a:xfrm>
            <a:off x="979560" y="5724360"/>
            <a:ext cx="75628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2647"/>
          <p:cNvSpPr/>
          <p:nvPr/>
        </p:nvSpPr>
        <p:spPr>
          <a:xfrm>
            <a:off x="960480" y="6267600"/>
            <a:ext cx="7562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1617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39040" cy="2733480"/>
          </a:xfrm>
          <a:prstGeom prst="rect">
            <a:avLst/>
          </a:prstGeom>
          <a:ln w="0">
            <a:noFill/>
          </a:ln>
        </p:spPr>
      </p:pic>
      <p:pic>
        <p:nvPicPr>
          <p:cNvPr id="1481" name="图片 111618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8182080" cy="155268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1619"/>
          <p:cNvSpPr/>
          <p:nvPr/>
        </p:nvSpPr>
        <p:spPr>
          <a:xfrm>
            <a:off x="665280" y="168588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1620"/>
          <p:cNvSpPr/>
          <p:nvPr/>
        </p:nvSpPr>
        <p:spPr>
          <a:xfrm>
            <a:off x="522360" y="2276640"/>
            <a:ext cx="75787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1621"/>
          <p:cNvSpPr/>
          <p:nvPr/>
        </p:nvSpPr>
        <p:spPr>
          <a:xfrm>
            <a:off x="617400" y="284796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1622"/>
          <p:cNvSpPr/>
          <p:nvPr/>
        </p:nvSpPr>
        <p:spPr>
          <a:xfrm>
            <a:off x="674640" y="340992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1623"/>
          <p:cNvSpPr/>
          <p:nvPr/>
        </p:nvSpPr>
        <p:spPr>
          <a:xfrm>
            <a:off x="646200" y="399096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0593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01040" cy="597204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10594"/>
          <p:cNvSpPr/>
          <p:nvPr/>
        </p:nvSpPr>
        <p:spPr>
          <a:xfrm>
            <a:off x="2884320" y="1743120"/>
            <a:ext cx="54327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595"/>
          <p:cNvSpPr/>
          <p:nvPr/>
        </p:nvSpPr>
        <p:spPr>
          <a:xfrm>
            <a:off x="2351160" y="231444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0596"/>
          <p:cNvSpPr/>
          <p:nvPr/>
        </p:nvSpPr>
        <p:spPr>
          <a:xfrm>
            <a:off x="2894040" y="3086280"/>
            <a:ext cx="54324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0597"/>
          <p:cNvSpPr/>
          <p:nvPr/>
        </p:nvSpPr>
        <p:spPr>
          <a:xfrm>
            <a:off x="2846520" y="382896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0598"/>
          <p:cNvSpPr/>
          <p:nvPr/>
        </p:nvSpPr>
        <p:spPr>
          <a:xfrm>
            <a:off x="2922480" y="4648320"/>
            <a:ext cx="54324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0599"/>
          <p:cNvSpPr/>
          <p:nvPr/>
        </p:nvSpPr>
        <p:spPr>
          <a:xfrm>
            <a:off x="2332080" y="521028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0600"/>
          <p:cNvSpPr/>
          <p:nvPr/>
        </p:nvSpPr>
        <p:spPr>
          <a:xfrm>
            <a:off x="2913120" y="601020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09569" descr=""/>
          <p:cNvPicPr/>
          <p:nvPr/>
        </p:nvPicPr>
        <p:blipFill>
          <a:blip r:embed="rId1"/>
          <a:stretch/>
        </p:blipFill>
        <p:spPr>
          <a:xfrm>
            <a:off x="523800" y="1176480"/>
            <a:ext cx="8096400" cy="4505040"/>
          </a:xfrm>
          <a:prstGeom prst="rect">
            <a:avLst/>
          </a:prstGeom>
          <a:ln w="0">
            <a:noFill/>
          </a:ln>
        </p:spPr>
      </p:pic>
      <p:sp>
        <p:nvSpPr>
          <p:cNvPr id="1496" name="矩形 109570"/>
          <p:cNvSpPr/>
          <p:nvPr/>
        </p:nvSpPr>
        <p:spPr>
          <a:xfrm>
            <a:off x="5132520" y="2286000"/>
            <a:ext cx="33699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1"/>
          <p:cNvSpPr/>
          <p:nvPr/>
        </p:nvSpPr>
        <p:spPr>
          <a:xfrm>
            <a:off x="960480" y="2867040"/>
            <a:ext cx="40100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9572"/>
          <p:cNvSpPr/>
          <p:nvPr/>
        </p:nvSpPr>
        <p:spPr>
          <a:xfrm>
            <a:off x="4255920" y="3448080"/>
            <a:ext cx="42768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3"/>
          <p:cNvSpPr/>
          <p:nvPr/>
        </p:nvSpPr>
        <p:spPr>
          <a:xfrm>
            <a:off x="1017720" y="4019400"/>
            <a:ext cx="52099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9574"/>
          <p:cNvSpPr/>
          <p:nvPr/>
        </p:nvSpPr>
        <p:spPr>
          <a:xfrm>
            <a:off x="4332240" y="4581360"/>
            <a:ext cx="42768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75"/>
          <p:cNvSpPr/>
          <p:nvPr/>
        </p:nvSpPr>
        <p:spPr>
          <a:xfrm>
            <a:off x="1017720" y="5162400"/>
            <a:ext cx="65786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05720" cy="38005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1969920" y="3097080"/>
            <a:ext cx="6591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4398840" y="310680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3851280" y="349092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5056200" y="4640400"/>
            <a:ext cx="65880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5" descr=""/>
          <p:cNvPicPr/>
          <p:nvPr/>
        </p:nvPicPr>
        <p:blipFill>
          <a:blip r:embed="rId1"/>
          <a:stretch/>
        </p:blipFill>
        <p:spPr>
          <a:xfrm>
            <a:off x="371520" y="1352520"/>
            <a:ext cx="8400960" cy="415296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6"/>
          <p:cNvSpPr/>
          <p:nvPr/>
        </p:nvSpPr>
        <p:spPr>
          <a:xfrm>
            <a:off x="2827440" y="208764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07"/>
          <p:cNvSpPr/>
          <p:nvPr/>
        </p:nvSpPr>
        <p:spPr>
          <a:xfrm>
            <a:off x="5313240" y="246852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8"/>
          <p:cNvSpPr/>
          <p:nvPr/>
        </p:nvSpPr>
        <p:spPr>
          <a:xfrm>
            <a:off x="6151680" y="3240000"/>
            <a:ext cx="14270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9"/>
          <p:cNvSpPr/>
          <p:nvPr/>
        </p:nvSpPr>
        <p:spPr>
          <a:xfrm>
            <a:off x="5846760" y="4392720"/>
            <a:ext cx="65880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1170000" y="477360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543880" cy="275256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122882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4238640" cy="147636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122883" descr=""/>
          <p:cNvPicPr/>
          <p:nvPr/>
        </p:nvPicPr>
        <p:blipFill>
          <a:blip r:embed="rId3"/>
          <a:stretch/>
        </p:blipFill>
        <p:spPr>
          <a:xfrm>
            <a:off x="5435640" y="335772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4"/>
          <p:cNvSpPr/>
          <p:nvPr/>
        </p:nvSpPr>
        <p:spPr>
          <a:xfrm>
            <a:off x="8370720" y="325908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6324840" cy="34272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8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381880" cy="302904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21859"/>
          <p:cNvSpPr/>
          <p:nvPr/>
        </p:nvSpPr>
        <p:spPr>
          <a:xfrm>
            <a:off x="6332400" y="105876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0"/>
          <p:cNvSpPr/>
          <p:nvPr/>
        </p:nvSpPr>
        <p:spPr>
          <a:xfrm>
            <a:off x="8418600" y="2982960"/>
            <a:ext cx="347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33360" y="2028960"/>
            <a:ext cx="8477280" cy="28000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8190000" y="2935440"/>
            <a:ext cx="34740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9809" descr=""/>
          <p:cNvPicPr/>
          <p:nvPr/>
        </p:nvPicPr>
        <p:blipFill>
          <a:blip r:embed="rId1"/>
          <a:stretch/>
        </p:blipFill>
        <p:spPr>
          <a:xfrm>
            <a:off x="338040" y="2043000"/>
            <a:ext cx="8467920" cy="27720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9810"/>
          <p:cNvSpPr/>
          <p:nvPr/>
        </p:nvSpPr>
        <p:spPr>
          <a:xfrm>
            <a:off x="8132760" y="2830680"/>
            <a:ext cx="34776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878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838600" cy="77148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118790" descr=""/>
          <p:cNvPicPr/>
          <p:nvPr/>
        </p:nvPicPr>
        <p:blipFill>
          <a:blip r:embed="rId2"/>
          <a:stretch/>
        </p:blipFill>
        <p:spPr>
          <a:xfrm>
            <a:off x="539640" y="1495440"/>
            <a:ext cx="8420040" cy="53532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8791"/>
          <p:cNvSpPr/>
          <p:nvPr/>
        </p:nvSpPr>
        <p:spPr>
          <a:xfrm>
            <a:off x="8342280" y="184932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8792"/>
          <p:cNvSpPr/>
          <p:nvPr/>
        </p:nvSpPr>
        <p:spPr>
          <a:xfrm>
            <a:off x="8304120" y="452592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776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72520" cy="535320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4"/>
          <p:cNvSpPr/>
          <p:nvPr/>
        </p:nvSpPr>
        <p:spPr>
          <a:xfrm>
            <a:off x="8180280" y="188748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7765"/>
          <p:cNvSpPr/>
          <p:nvPr/>
        </p:nvSpPr>
        <p:spPr>
          <a:xfrm>
            <a:off x="8237520" y="464976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2:1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